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435F5-B928-484F-B4CA-F9E95C52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9D94-6485-4D78-9E33-4612CFFD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CC56E-3619-4F8E-82EE-1FA343C51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54A6A-5D21-41C7-B285-138F8DE6D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AA460-921E-4AA2-A781-885C6BE7D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AD3BC-4F6B-4C4C-B157-1A0E15AF7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1735A-1213-4D41-8BBE-0F78F4192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7EF48-9859-4AC5-A626-AF3A87CE7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C0261-426E-4604-9217-99D5A2E8A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C20F0-7CBE-4B1E-BBCC-49086CE1F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19660-1B67-48E4-8790-80A6EF920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5FDC-2942-4892-B8B6-69F8580E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18A25-8CD8-4626-9ECF-0318CEAA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BA4B-AB74-4E17-8CB2-D3E9C07C0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996CA-EDFA-4794-9DF1-F7D94F726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61DD5-3B59-48B8-A97D-320CE2A18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580BA-23AE-4F8A-A03C-1A4903AD0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8392-AFAB-4F8D-ABF4-E3CF4E82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F0AF-A186-44AA-8469-0DC691E5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A7E2A-262E-48A6-9561-7B06B40FC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D4AA-8136-443F-8F25-6FD27A4C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C6B8-4BCD-4D60-9942-EE9ADD45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C9F6-19F2-484D-845D-227316D9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D340F-DBB6-4FE9-8BA0-2AF17465E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0" y="0"/>
            <a:ext cx="8288280" cy="3402000"/>
            <a:chOff x="0" y="0"/>
            <a:chExt cx="8288280" cy="3402000"/>
          </a:xfrm>
        </p:grpSpPr>
        <p:sp>
          <p:nvSpPr>
            <p:cNvPr id="1" name=""/>
            <p:cNvSpPr/>
            <p:nvPr/>
          </p:nvSpPr>
          <p:spPr>
            <a:xfrm>
              <a:off x="2724120" y="0"/>
              <a:ext cx="5564160" cy="2332080"/>
            </a:xfrm>
            <a:custGeom>
              <a:avLst/>
              <a:gdLst/>
              <a:ahLst/>
              <a:rect l="l" t="t" r="r" b="b"/>
              <a:pathLst>
                <a:path w="3505" h="1469">
                  <a:moveTo>
                    <a:pt x="420" y="932"/>
                  </a:moveTo>
                  <a:lnTo>
                    <a:pt x="390" y="969"/>
                  </a:lnTo>
                  <a:lnTo>
                    <a:pt x="360" y="1014"/>
                  </a:lnTo>
                  <a:lnTo>
                    <a:pt x="342" y="1056"/>
                  </a:lnTo>
                  <a:lnTo>
                    <a:pt x="336" y="1106"/>
                  </a:lnTo>
                  <a:lnTo>
                    <a:pt x="336" y="1155"/>
                  </a:lnTo>
                  <a:lnTo>
                    <a:pt x="348" y="1219"/>
                  </a:lnTo>
                  <a:lnTo>
                    <a:pt x="378" y="1263"/>
                  </a:lnTo>
                  <a:lnTo>
                    <a:pt x="420" y="1311"/>
                  </a:lnTo>
                  <a:lnTo>
                    <a:pt x="504" y="1388"/>
                  </a:lnTo>
                  <a:lnTo>
                    <a:pt x="582" y="1422"/>
                  </a:lnTo>
                  <a:lnTo>
                    <a:pt x="666" y="1445"/>
                  </a:lnTo>
                  <a:lnTo>
                    <a:pt x="735" y="1458"/>
                  </a:lnTo>
                  <a:lnTo>
                    <a:pt x="822" y="1466"/>
                  </a:lnTo>
                  <a:lnTo>
                    <a:pt x="918" y="1468"/>
                  </a:lnTo>
                  <a:lnTo>
                    <a:pt x="1029" y="1465"/>
                  </a:lnTo>
                  <a:lnTo>
                    <a:pt x="1116" y="1455"/>
                  </a:lnTo>
                  <a:lnTo>
                    <a:pt x="1215" y="1435"/>
                  </a:lnTo>
                  <a:lnTo>
                    <a:pt x="1308" y="1404"/>
                  </a:lnTo>
                  <a:lnTo>
                    <a:pt x="1395" y="1366"/>
                  </a:lnTo>
                  <a:lnTo>
                    <a:pt x="1500" y="1301"/>
                  </a:lnTo>
                  <a:lnTo>
                    <a:pt x="1560" y="1260"/>
                  </a:lnTo>
                  <a:lnTo>
                    <a:pt x="1620" y="1219"/>
                  </a:lnTo>
                  <a:lnTo>
                    <a:pt x="1680" y="1164"/>
                  </a:lnTo>
                  <a:lnTo>
                    <a:pt x="1728" y="1117"/>
                  </a:lnTo>
                  <a:lnTo>
                    <a:pt x="1770" y="1065"/>
                  </a:lnTo>
                  <a:lnTo>
                    <a:pt x="1821" y="1014"/>
                  </a:lnTo>
                  <a:lnTo>
                    <a:pt x="1875" y="972"/>
                  </a:lnTo>
                  <a:lnTo>
                    <a:pt x="1932" y="934"/>
                  </a:lnTo>
                  <a:lnTo>
                    <a:pt x="2004" y="894"/>
                  </a:lnTo>
                  <a:lnTo>
                    <a:pt x="2088" y="861"/>
                  </a:lnTo>
                  <a:lnTo>
                    <a:pt x="2181" y="834"/>
                  </a:lnTo>
                  <a:lnTo>
                    <a:pt x="2271" y="812"/>
                  </a:lnTo>
                  <a:lnTo>
                    <a:pt x="2358" y="795"/>
                  </a:lnTo>
                  <a:lnTo>
                    <a:pt x="2463" y="782"/>
                  </a:lnTo>
                  <a:lnTo>
                    <a:pt x="2568" y="780"/>
                  </a:lnTo>
                  <a:lnTo>
                    <a:pt x="2676" y="779"/>
                  </a:lnTo>
                  <a:lnTo>
                    <a:pt x="2952" y="789"/>
                  </a:lnTo>
                  <a:lnTo>
                    <a:pt x="3240" y="820"/>
                  </a:lnTo>
                  <a:lnTo>
                    <a:pt x="3504" y="871"/>
                  </a:lnTo>
                  <a:lnTo>
                    <a:pt x="2460" y="0"/>
                  </a:lnTo>
                  <a:lnTo>
                    <a:pt x="0" y="0"/>
                  </a:lnTo>
                  <a:lnTo>
                    <a:pt x="420" y="932"/>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181320" y="1392120"/>
              <a:ext cx="1392120" cy="781200"/>
            </a:xfrm>
            <a:custGeom>
              <a:avLst/>
              <a:gdLst/>
              <a:ahLst/>
              <a:rect l="l" t="t" r="r" b="b"/>
              <a:pathLst>
                <a:path w="877" h="492">
                  <a:moveTo>
                    <a:pt x="876" y="159"/>
                  </a:moveTo>
                  <a:lnTo>
                    <a:pt x="864" y="197"/>
                  </a:lnTo>
                  <a:lnTo>
                    <a:pt x="843" y="221"/>
                  </a:lnTo>
                  <a:lnTo>
                    <a:pt x="804" y="237"/>
                  </a:lnTo>
                  <a:lnTo>
                    <a:pt x="759" y="248"/>
                  </a:lnTo>
                  <a:lnTo>
                    <a:pt x="696" y="253"/>
                  </a:lnTo>
                  <a:lnTo>
                    <a:pt x="612" y="251"/>
                  </a:lnTo>
                  <a:lnTo>
                    <a:pt x="513" y="248"/>
                  </a:lnTo>
                  <a:lnTo>
                    <a:pt x="435" y="253"/>
                  </a:lnTo>
                  <a:lnTo>
                    <a:pt x="369" y="260"/>
                  </a:lnTo>
                  <a:lnTo>
                    <a:pt x="318" y="272"/>
                  </a:lnTo>
                  <a:lnTo>
                    <a:pt x="275" y="283"/>
                  </a:lnTo>
                  <a:lnTo>
                    <a:pt x="234" y="305"/>
                  </a:lnTo>
                  <a:lnTo>
                    <a:pt x="207" y="327"/>
                  </a:lnTo>
                  <a:lnTo>
                    <a:pt x="180" y="366"/>
                  </a:lnTo>
                  <a:lnTo>
                    <a:pt x="171" y="401"/>
                  </a:lnTo>
                  <a:lnTo>
                    <a:pt x="174" y="437"/>
                  </a:lnTo>
                  <a:lnTo>
                    <a:pt x="191" y="491"/>
                  </a:lnTo>
                  <a:lnTo>
                    <a:pt x="135" y="440"/>
                  </a:lnTo>
                  <a:lnTo>
                    <a:pt x="93" y="394"/>
                  </a:lnTo>
                  <a:lnTo>
                    <a:pt x="60" y="350"/>
                  </a:lnTo>
                  <a:lnTo>
                    <a:pt x="29" y="288"/>
                  </a:lnTo>
                  <a:lnTo>
                    <a:pt x="15" y="236"/>
                  </a:lnTo>
                  <a:lnTo>
                    <a:pt x="2" y="179"/>
                  </a:lnTo>
                  <a:lnTo>
                    <a:pt x="0" y="125"/>
                  </a:lnTo>
                  <a:lnTo>
                    <a:pt x="3" y="80"/>
                  </a:lnTo>
                  <a:lnTo>
                    <a:pt x="43" y="65"/>
                  </a:lnTo>
                  <a:lnTo>
                    <a:pt x="109" y="48"/>
                  </a:lnTo>
                  <a:lnTo>
                    <a:pt x="189" y="30"/>
                  </a:lnTo>
                  <a:lnTo>
                    <a:pt x="276" y="12"/>
                  </a:lnTo>
                  <a:lnTo>
                    <a:pt x="363" y="0"/>
                  </a:lnTo>
                  <a:lnTo>
                    <a:pt x="462" y="0"/>
                  </a:lnTo>
                  <a:lnTo>
                    <a:pt x="549" y="5"/>
                  </a:lnTo>
                  <a:lnTo>
                    <a:pt x="642" y="20"/>
                  </a:lnTo>
                  <a:lnTo>
                    <a:pt x="717" y="38"/>
                  </a:lnTo>
                  <a:lnTo>
                    <a:pt x="759" y="54"/>
                  </a:lnTo>
                  <a:lnTo>
                    <a:pt x="807" y="86"/>
                  </a:lnTo>
                  <a:lnTo>
                    <a:pt x="846" y="125"/>
                  </a:lnTo>
                  <a:lnTo>
                    <a:pt x="876" y="15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4573440" cy="3402000"/>
            </a:xfrm>
            <a:custGeom>
              <a:avLst/>
              <a:gdLst/>
              <a:ahLst/>
              <a:rect l="l" t="t" r="r" b="b"/>
              <a:pathLst>
                <a:path w="2881" h="2143">
                  <a:moveTo>
                    <a:pt x="0" y="2142"/>
                  </a:moveTo>
                  <a:lnTo>
                    <a:pt x="81" y="2032"/>
                  </a:lnTo>
                  <a:lnTo>
                    <a:pt x="183" y="1928"/>
                  </a:lnTo>
                  <a:lnTo>
                    <a:pt x="276" y="1833"/>
                  </a:lnTo>
                  <a:lnTo>
                    <a:pt x="370" y="1736"/>
                  </a:lnTo>
                  <a:lnTo>
                    <a:pt x="468" y="1653"/>
                  </a:lnTo>
                  <a:lnTo>
                    <a:pt x="571" y="1572"/>
                  </a:lnTo>
                  <a:lnTo>
                    <a:pt x="712" y="1480"/>
                  </a:lnTo>
                  <a:lnTo>
                    <a:pt x="824" y="1410"/>
                  </a:lnTo>
                  <a:lnTo>
                    <a:pt x="1064" y="1285"/>
                  </a:lnTo>
                  <a:lnTo>
                    <a:pt x="1303" y="1182"/>
                  </a:lnTo>
                  <a:lnTo>
                    <a:pt x="1536" y="1103"/>
                  </a:lnTo>
                  <a:lnTo>
                    <a:pt x="1757" y="1029"/>
                  </a:lnTo>
                  <a:lnTo>
                    <a:pt x="2001" y="958"/>
                  </a:lnTo>
                  <a:lnTo>
                    <a:pt x="2097" y="930"/>
                  </a:lnTo>
                  <a:lnTo>
                    <a:pt x="2202" y="904"/>
                  </a:lnTo>
                  <a:lnTo>
                    <a:pt x="2289" y="884"/>
                  </a:lnTo>
                  <a:lnTo>
                    <a:pt x="2385" y="876"/>
                  </a:lnTo>
                  <a:lnTo>
                    <a:pt x="2469" y="873"/>
                  </a:lnTo>
                  <a:lnTo>
                    <a:pt x="2559" y="881"/>
                  </a:lnTo>
                  <a:lnTo>
                    <a:pt x="2634" y="893"/>
                  </a:lnTo>
                  <a:lnTo>
                    <a:pt x="2703" y="912"/>
                  </a:lnTo>
                  <a:lnTo>
                    <a:pt x="2769" y="939"/>
                  </a:lnTo>
                  <a:lnTo>
                    <a:pt x="2829" y="979"/>
                  </a:lnTo>
                  <a:lnTo>
                    <a:pt x="2880" y="1035"/>
                  </a:lnTo>
                  <a:lnTo>
                    <a:pt x="2877" y="981"/>
                  </a:lnTo>
                  <a:lnTo>
                    <a:pt x="2868" y="943"/>
                  </a:lnTo>
                  <a:lnTo>
                    <a:pt x="2847" y="894"/>
                  </a:lnTo>
                  <a:lnTo>
                    <a:pt x="2817" y="853"/>
                  </a:lnTo>
                  <a:lnTo>
                    <a:pt x="2781" y="816"/>
                  </a:lnTo>
                  <a:lnTo>
                    <a:pt x="2742" y="779"/>
                  </a:lnTo>
                  <a:lnTo>
                    <a:pt x="1884" y="0"/>
                  </a:lnTo>
                  <a:lnTo>
                    <a:pt x="0" y="0"/>
                  </a:lnTo>
                  <a:lnTo>
                    <a:pt x="0" y="2142"/>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0"/>
              <a:ext cx="4395960" cy="2868480"/>
              <a:chOff x="0" y="0"/>
              <a:chExt cx="4395960" cy="2868480"/>
            </a:xfrm>
          </p:grpSpPr>
          <p:sp>
            <p:nvSpPr>
              <p:cNvPr id="5" name=""/>
              <p:cNvSpPr/>
              <p:nvPr/>
            </p:nvSpPr>
            <p:spPr>
              <a:xfrm>
                <a:off x="0" y="0"/>
                <a:ext cx="3164040" cy="992160"/>
              </a:xfrm>
              <a:custGeom>
                <a:avLst/>
                <a:gdLst/>
                <a:ahLst/>
                <a:rect l="l" t="t" r="r" b="b"/>
                <a:pathLst>
                  <a:path w="1993" h="625">
                    <a:moveTo>
                      <a:pt x="0" y="402"/>
                    </a:moveTo>
                    <a:lnTo>
                      <a:pt x="108" y="351"/>
                    </a:lnTo>
                    <a:lnTo>
                      <a:pt x="225" y="298"/>
                    </a:lnTo>
                    <a:lnTo>
                      <a:pt x="367" y="237"/>
                    </a:lnTo>
                    <a:lnTo>
                      <a:pt x="494" y="190"/>
                    </a:lnTo>
                    <a:lnTo>
                      <a:pt x="637" y="144"/>
                    </a:lnTo>
                    <a:lnTo>
                      <a:pt x="765" y="108"/>
                    </a:lnTo>
                    <a:lnTo>
                      <a:pt x="931" y="68"/>
                    </a:lnTo>
                    <a:lnTo>
                      <a:pt x="1057" y="39"/>
                    </a:lnTo>
                    <a:lnTo>
                      <a:pt x="1162" y="21"/>
                    </a:lnTo>
                    <a:lnTo>
                      <a:pt x="1258" y="7"/>
                    </a:lnTo>
                    <a:lnTo>
                      <a:pt x="1390" y="3"/>
                    </a:lnTo>
                    <a:lnTo>
                      <a:pt x="1884" y="0"/>
                    </a:lnTo>
                    <a:lnTo>
                      <a:pt x="1992" y="96"/>
                    </a:lnTo>
                    <a:lnTo>
                      <a:pt x="1846" y="96"/>
                    </a:lnTo>
                    <a:lnTo>
                      <a:pt x="1707" y="102"/>
                    </a:lnTo>
                    <a:lnTo>
                      <a:pt x="1558" y="114"/>
                    </a:lnTo>
                    <a:lnTo>
                      <a:pt x="1437" y="129"/>
                    </a:lnTo>
                    <a:lnTo>
                      <a:pt x="1302" y="152"/>
                    </a:lnTo>
                    <a:lnTo>
                      <a:pt x="1187" y="174"/>
                    </a:lnTo>
                    <a:lnTo>
                      <a:pt x="1065" y="202"/>
                    </a:lnTo>
                    <a:lnTo>
                      <a:pt x="957" y="232"/>
                    </a:lnTo>
                    <a:lnTo>
                      <a:pt x="885" y="252"/>
                    </a:lnTo>
                    <a:lnTo>
                      <a:pt x="731" y="294"/>
                    </a:lnTo>
                    <a:lnTo>
                      <a:pt x="560" y="348"/>
                    </a:lnTo>
                    <a:lnTo>
                      <a:pt x="405" y="408"/>
                    </a:lnTo>
                    <a:lnTo>
                      <a:pt x="229" y="486"/>
                    </a:lnTo>
                    <a:lnTo>
                      <a:pt x="130" y="534"/>
                    </a:lnTo>
                    <a:lnTo>
                      <a:pt x="54" y="582"/>
                    </a:lnTo>
                    <a:lnTo>
                      <a:pt x="0" y="624"/>
                    </a:lnTo>
                    <a:lnTo>
                      <a:pt x="0" y="40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328680"/>
                <a:ext cx="3865680" cy="1782720"/>
              </a:xfrm>
              <a:custGeom>
                <a:avLst/>
                <a:gdLst/>
                <a:ahLst/>
                <a:rect l="l" t="t" r="r" b="b"/>
                <a:pathLst>
                  <a:path w="2435" h="1123">
                    <a:moveTo>
                      <a:pt x="0" y="627"/>
                    </a:moveTo>
                    <a:lnTo>
                      <a:pt x="123" y="540"/>
                    </a:lnTo>
                    <a:lnTo>
                      <a:pt x="267" y="447"/>
                    </a:lnTo>
                    <a:lnTo>
                      <a:pt x="400" y="381"/>
                    </a:lnTo>
                    <a:lnTo>
                      <a:pt x="555" y="315"/>
                    </a:lnTo>
                    <a:lnTo>
                      <a:pt x="709" y="255"/>
                    </a:lnTo>
                    <a:lnTo>
                      <a:pt x="885" y="201"/>
                    </a:lnTo>
                    <a:lnTo>
                      <a:pt x="1061" y="147"/>
                    </a:lnTo>
                    <a:lnTo>
                      <a:pt x="1232" y="105"/>
                    </a:lnTo>
                    <a:lnTo>
                      <a:pt x="1397" y="75"/>
                    </a:lnTo>
                    <a:lnTo>
                      <a:pt x="1552" y="45"/>
                    </a:lnTo>
                    <a:lnTo>
                      <a:pt x="1680" y="21"/>
                    </a:lnTo>
                    <a:lnTo>
                      <a:pt x="1829" y="3"/>
                    </a:lnTo>
                    <a:lnTo>
                      <a:pt x="1949" y="0"/>
                    </a:lnTo>
                    <a:lnTo>
                      <a:pt x="2059" y="1"/>
                    </a:lnTo>
                    <a:lnTo>
                      <a:pt x="2116" y="3"/>
                    </a:lnTo>
                    <a:lnTo>
                      <a:pt x="2434" y="293"/>
                    </a:lnTo>
                    <a:lnTo>
                      <a:pt x="2353" y="280"/>
                    </a:lnTo>
                    <a:lnTo>
                      <a:pt x="2250" y="273"/>
                    </a:lnTo>
                    <a:lnTo>
                      <a:pt x="2155" y="273"/>
                    </a:lnTo>
                    <a:lnTo>
                      <a:pt x="2039" y="282"/>
                    </a:lnTo>
                    <a:lnTo>
                      <a:pt x="1888" y="303"/>
                    </a:lnTo>
                    <a:lnTo>
                      <a:pt x="1792" y="319"/>
                    </a:lnTo>
                    <a:lnTo>
                      <a:pt x="1696" y="339"/>
                    </a:lnTo>
                    <a:lnTo>
                      <a:pt x="1477" y="387"/>
                    </a:lnTo>
                    <a:lnTo>
                      <a:pt x="1258" y="444"/>
                    </a:lnTo>
                    <a:lnTo>
                      <a:pt x="1093" y="498"/>
                    </a:lnTo>
                    <a:lnTo>
                      <a:pt x="937" y="546"/>
                    </a:lnTo>
                    <a:lnTo>
                      <a:pt x="763" y="621"/>
                    </a:lnTo>
                    <a:lnTo>
                      <a:pt x="576" y="705"/>
                    </a:lnTo>
                    <a:lnTo>
                      <a:pt x="411" y="795"/>
                    </a:lnTo>
                    <a:lnTo>
                      <a:pt x="299" y="862"/>
                    </a:lnTo>
                    <a:lnTo>
                      <a:pt x="200" y="934"/>
                    </a:lnTo>
                    <a:lnTo>
                      <a:pt x="115" y="1005"/>
                    </a:lnTo>
                    <a:lnTo>
                      <a:pt x="0" y="1122"/>
                    </a:lnTo>
                    <a:lnTo>
                      <a:pt x="0" y="627"/>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952560"/>
                <a:ext cx="4395960" cy="1915920"/>
              </a:xfrm>
              <a:custGeom>
                <a:avLst/>
                <a:gdLst/>
                <a:ahLst/>
                <a:rect l="l" t="t" r="r" b="b"/>
                <a:pathLst>
                  <a:path w="2769" h="1207">
                    <a:moveTo>
                      <a:pt x="0" y="966"/>
                    </a:moveTo>
                    <a:lnTo>
                      <a:pt x="64" y="900"/>
                    </a:lnTo>
                    <a:lnTo>
                      <a:pt x="171" y="799"/>
                    </a:lnTo>
                    <a:lnTo>
                      <a:pt x="277" y="716"/>
                    </a:lnTo>
                    <a:lnTo>
                      <a:pt x="367" y="649"/>
                    </a:lnTo>
                    <a:lnTo>
                      <a:pt x="432" y="601"/>
                    </a:lnTo>
                    <a:lnTo>
                      <a:pt x="507" y="555"/>
                    </a:lnTo>
                    <a:lnTo>
                      <a:pt x="592" y="504"/>
                    </a:lnTo>
                    <a:lnTo>
                      <a:pt x="725" y="438"/>
                    </a:lnTo>
                    <a:lnTo>
                      <a:pt x="875" y="366"/>
                    </a:lnTo>
                    <a:lnTo>
                      <a:pt x="1056" y="294"/>
                    </a:lnTo>
                    <a:lnTo>
                      <a:pt x="1232" y="228"/>
                    </a:lnTo>
                    <a:lnTo>
                      <a:pt x="1392" y="180"/>
                    </a:lnTo>
                    <a:lnTo>
                      <a:pt x="1568" y="132"/>
                    </a:lnTo>
                    <a:lnTo>
                      <a:pt x="1738" y="90"/>
                    </a:lnTo>
                    <a:lnTo>
                      <a:pt x="1914" y="54"/>
                    </a:lnTo>
                    <a:lnTo>
                      <a:pt x="2090" y="27"/>
                    </a:lnTo>
                    <a:lnTo>
                      <a:pt x="2218" y="12"/>
                    </a:lnTo>
                    <a:lnTo>
                      <a:pt x="2353" y="1"/>
                    </a:lnTo>
                    <a:lnTo>
                      <a:pt x="2458" y="0"/>
                    </a:lnTo>
                    <a:lnTo>
                      <a:pt x="2554" y="7"/>
                    </a:lnTo>
                    <a:lnTo>
                      <a:pt x="2768" y="197"/>
                    </a:lnTo>
                    <a:lnTo>
                      <a:pt x="2677" y="150"/>
                    </a:lnTo>
                    <a:lnTo>
                      <a:pt x="2598" y="126"/>
                    </a:lnTo>
                    <a:lnTo>
                      <a:pt x="2515" y="118"/>
                    </a:lnTo>
                    <a:lnTo>
                      <a:pt x="2442" y="120"/>
                    </a:lnTo>
                    <a:lnTo>
                      <a:pt x="2362" y="124"/>
                    </a:lnTo>
                    <a:lnTo>
                      <a:pt x="2277" y="132"/>
                    </a:lnTo>
                    <a:lnTo>
                      <a:pt x="2175" y="147"/>
                    </a:lnTo>
                    <a:lnTo>
                      <a:pt x="2085" y="162"/>
                    </a:lnTo>
                    <a:lnTo>
                      <a:pt x="1877" y="204"/>
                    </a:lnTo>
                    <a:lnTo>
                      <a:pt x="1642" y="258"/>
                    </a:lnTo>
                    <a:lnTo>
                      <a:pt x="1477" y="306"/>
                    </a:lnTo>
                    <a:lnTo>
                      <a:pt x="1312" y="360"/>
                    </a:lnTo>
                    <a:lnTo>
                      <a:pt x="1120" y="432"/>
                    </a:lnTo>
                    <a:lnTo>
                      <a:pt x="939" y="510"/>
                    </a:lnTo>
                    <a:lnTo>
                      <a:pt x="752" y="600"/>
                    </a:lnTo>
                    <a:lnTo>
                      <a:pt x="658" y="654"/>
                    </a:lnTo>
                    <a:lnTo>
                      <a:pt x="571" y="708"/>
                    </a:lnTo>
                    <a:lnTo>
                      <a:pt x="421" y="810"/>
                    </a:lnTo>
                    <a:lnTo>
                      <a:pt x="309" y="906"/>
                    </a:lnTo>
                    <a:lnTo>
                      <a:pt x="203" y="1002"/>
                    </a:lnTo>
                    <a:lnTo>
                      <a:pt x="93" y="1107"/>
                    </a:lnTo>
                    <a:lnTo>
                      <a:pt x="0" y="1206"/>
                    </a:lnTo>
                    <a:lnTo>
                      <a:pt x="0" y="966"/>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FE69-BB9B-4799-A55E-B293B728A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9" name=""/>
          <p:cNvGrpSpPr/>
          <p:nvPr/>
        </p:nvGrpSpPr>
        <p:grpSpPr>
          <a:xfrm>
            <a:off x="0" y="0"/>
            <a:ext cx="9144000" cy="4726080"/>
            <a:chOff x="0" y="0"/>
            <a:chExt cx="9144000" cy="4726080"/>
          </a:xfrm>
        </p:grpSpPr>
        <p:sp>
          <p:nvSpPr>
            <p:cNvPr id="50" name=""/>
            <p:cNvSpPr/>
            <p:nvPr/>
          </p:nvSpPr>
          <p:spPr>
            <a:xfrm>
              <a:off x="3164040" y="0"/>
              <a:ext cx="5979960" cy="3238560"/>
            </a:xfrm>
            <a:custGeom>
              <a:avLst/>
              <a:gdLst/>
              <a:ahLst/>
              <a:rect l="l" t="t" r="r" b="b"/>
              <a:pathLst>
                <a:path w="3767" h="2040">
                  <a:moveTo>
                    <a:pt x="487" y="1294"/>
                  </a:moveTo>
                  <a:lnTo>
                    <a:pt x="452" y="1345"/>
                  </a:lnTo>
                  <a:lnTo>
                    <a:pt x="418" y="1408"/>
                  </a:lnTo>
                  <a:lnTo>
                    <a:pt x="397" y="1466"/>
                  </a:lnTo>
                  <a:lnTo>
                    <a:pt x="390" y="1536"/>
                  </a:lnTo>
                  <a:lnTo>
                    <a:pt x="390" y="1604"/>
                  </a:lnTo>
                  <a:lnTo>
                    <a:pt x="404" y="1693"/>
                  </a:lnTo>
                  <a:lnTo>
                    <a:pt x="438" y="1754"/>
                  </a:lnTo>
                  <a:lnTo>
                    <a:pt x="487" y="1820"/>
                  </a:lnTo>
                  <a:lnTo>
                    <a:pt x="585" y="1927"/>
                  </a:lnTo>
                  <a:lnTo>
                    <a:pt x="675" y="1975"/>
                  </a:lnTo>
                  <a:lnTo>
                    <a:pt x="773" y="2007"/>
                  </a:lnTo>
                  <a:lnTo>
                    <a:pt x="853" y="2025"/>
                  </a:lnTo>
                  <a:lnTo>
                    <a:pt x="954" y="2036"/>
                  </a:lnTo>
                  <a:lnTo>
                    <a:pt x="1066" y="2039"/>
                  </a:lnTo>
                  <a:lnTo>
                    <a:pt x="1194" y="2034"/>
                  </a:lnTo>
                  <a:lnTo>
                    <a:pt x="1295" y="2020"/>
                  </a:lnTo>
                  <a:lnTo>
                    <a:pt x="1410" y="1993"/>
                  </a:lnTo>
                  <a:lnTo>
                    <a:pt x="1518" y="1950"/>
                  </a:lnTo>
                  <a:lnTo>
                    <a:pt x="1619" y="1897"/>
                  </a:lnTo>
                  <a:lnTo>
                    <a:pt x="1741" y="1807"/>
                  </a:lnTo>
                  <a:lnTo>
                    <a:pt x="1811" y="1750"/>
                  </a:lnTo>
                  <a:lnTo>
                    <a:pt x="1881" y="1693"/>
                  </a:lnTo>
                  <a:lnTo>
                    <a:pt x="1950" y="1616"/>
                  </a:lnTo>
                  <a:lnTo>
                    <a:pt x="2006" y="1551"/>
                  </a:lnTo>
                  <a:lnTo>
                    <a:pt x="2055" y="1479"/>
                  </a:lnTo>
                  <a:lnTo>
                    <a:pt x="2114" y="1408"/>
                  </a:lnTo>
                  <a:lnTo>
                    <a:pt x="2177" y="1350"/>
                  </a:lnTo>
                  <a:lnTo>
                    <a:pt x="2243" y="1297"/>
                  </a:lnTo>
                  <a:lnTo>
                    <a:pt x="2327" y="1241"/>
                  </a:lnTo>
                  <a:lnTo>
                    <a:pt x="2424" y="1195"/>
                  </a:lnTo>
                  <a:lnTo>
                    <a:pt x="2532" y="1158"/>
                  </a:lnTo>
                  <a:lnTo>
                    <a:pt x="2637" y="1127"/>
                  </a:lnTo>
                  <a:lnTo>
                    <a:pt x="2738" y="1104"/>
                  </a:lnTo>
                  <a:lnTo>
                    <a:pt x="2860" y="1086"/>
                  </a:lnTo>
                  <a:lnTo>
                    <a:pt x="2982" y="1083"/>
                  </a:lnTo>
                  <a:lnTo>
                    <a:pt x="3107" y="1082"/>
                  </a:lnTo>
                  <a:lnTo>
                    <a:pt x="3428" y="1095"/>
                  </a:lnTo>
                  <a:lnTo>
                    <a:pt x="3766" y="1151"/>
                  </a:lnTo>
                  <a:lnTo>
                    <a:pt x="3766" y="912"/>
                  </a:lnTo>
                  <a:lnTo>
                    <a:pt x="2856" y="0"/>
                  </a:lnTo>
                  <a:lnTo>
                    <a:pt x="0" y="0"/>
                  </a:lnTo>
                  <a:lnTo>
                    <a:pt x="487" y="1294"/>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3693960" y="1935000"/>
              <a:ext cx="1616400" cy="1084320"/>
            </a:xfrm>
            <a:custGeom>
              <a:avLst/>
              <a:gdLst/>
              <a:ahLst/>
              <a:rect l="l" t="t" r="r" b="b"/>
              <a:pathLst>
                <a:path w="1018" h="683">
                  <a:moveTo>
                    <a:pt x="1017" y="220"/>
                  </a:moveTo>
                  <a:lnTo>
                    <a:pt x="1003" y="273"/>
                  </a:lnTo>
                  <a:lnTo>
                    <a:pt x="978" y="306"/>
                  </a:lnTo>
                  <a:lnTo>
                    <a:pt x="933" y="329"/>
                  </a:lnTo>
                  <a:lnTo>
                    <a:pt x="881" y="344"/>
                  </a:lnTo>
                  <a:lnTo>
                    <a:pt x="808" y="351"/>
                  </a:lnTo>
                  <a:lnTo>
                    <a:pt x="710" y="348"/>
                  </a:lnTo>
                  <a:lnTo>
                    <a:pt x="595" y="344"/>
                  </a:lnTo>
                  <a:lnTo>
                    <a:pt x="505" y="351"/>
                  </a:lnTo>
                  <a:lnTo>
                    <a:pt x="428" y="361"/>
                  </a:lnTo>
                  <a:lnTo>
                    <a:pt x="369" y="377"/>
                  </a:lnTo>
                  <a:lnTo>
                    <a:pt x="319" y="393"/>
                  </a:lnTo>
                  <a:lnTo>
                    <a:pt x="271" y="423"/>
                  </a:lnTo>
                  <a:lnTo>
                    <a:pt x="240" y="454"/>
                  </a:lnTo>
                  <a:lnTo>
                    <a:pt x="208" y="508"/>
                  </a:lnTo>
                  <a:lnTo>
                    <a:pt x="198" y="556"/>
                  </a:lnTo>
                  <a:lnTo>
                    <a:pt x="202" y="606"/>
                  </a:lnTo>
                  <a:lnTo>
                    <a:pt x="221" y="682"/>
                  </a:lnTo>
                  <a:lnTo>
                    <a:pt x="156" y="611"/>
                  </a:lnTo>
                  <a:lnTo>
                    <a:pt x="107" y="547"/>
                  </a:lnTo>
                  <a:lnTo>
                    <a:pt x="69" y="486"/>
                  </a:lnTo>
                  <a:lnTo>
                    <a:pt x="33" y="400"/>
                  </a:lnTo>
                  <a:lnTo>
                    <a:pt x="17" y="327"/>
                  </a:lnTo>
                  <a:lnTo>
                    <a:pt x="2" y="248"/>
                  </a:lnTo>
                  <a:lnTo>
                    <a:pt x="0" y="173"/>
                  </a:lnTo>
                  <a:lnTo>
                    <a:pt x="3" y="111"/>
                  </a:lnTo>
                  <a:lnTo>
                    <a:pt x="49" y="90"/>
                  </a:lnTo>
                  <a:lnTo>
                    <a:pt x="126" y="66"/>
                  </a:lnTo>
                  <a:lnTo>
                    <a:pt x="219" y="41"/>
                  </a:lnTo>
                  <a:lnTo>
                    <a:pt x="320" y="16"/>
                  </a:lnTo>
                  <a:lnTo>
                    <a:pt x="421" y="0"/>
                  </a:lnTo>
                  <a:lnTo>
                    <a:pt x="536" y="0"/>
                  </a:lnTo>
                  <a:lnTo>
                    <a:pt x="637" y="6"/>
                  </a:lnTo>
                  <a:lnTo>
                    <a:pt x="745" y="27"/>
                  </a:lnTo>
                  <a:lnTo>
                    <a:pt x="832" y="52"/>
                  </a:lnTo>
                  <a:lnTo>
                    <a:pt x="881" y="75"/>
                  </a:lnTo>
                  <a:lnTo>
                    <a:pt x="936" y="119"/>
                  </a:lnTo>
                  <a:lnTo>
                    <a:pt x="982" y="173"/>
                  </a:lnTo>
                  <a:lnTo>
                    <a:pt x="1017" y="22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0"/>
              <a:ext cx="5310360" cy="4726080"/>
            </a:xfrm>
            <a:custGeom>
              <a:avLst/>
              <a:gdLst/>
              <a:ahLst/>
              <a:rect l="l" t="t" r="r" b="b"/>
              <a:pathLst>
                <a:path w="3345" h="2977">
                  <a:moveTo>
                    <a:pt x="0" y="2976"/>
                  </a:moveTo>
                  <a:lnTo>
                    <a:pt x="94" y="2823"/>
                  </a:lnTo>
                  <a:lnTo>
                    <a:pt x="212" y="2678"/>
                  </a:lnTo>
                  <a:lnTo>
                    <a:pt x="320" y="2546"/>
                  </a:lnTo>
                  <a:lnTo>
                    <a:pt x="429" y="2411"/>
                  </a:lnTo>
                  <a:lnTo>
                    <a:pt x="543" y="2296"/>
                  </a:lnTo>
                  <a:lnTo>
                    <a:pt x="662" y="2184"/>
                  </a:lnTo>
                  <a:lnTo>
                    <a:pt x="826" y="2056"/>
                  </a:lnTo>
                  <a:lnTo>
                    <a:pt x="956" y="1958"/>
                  </a:lnTo>
                  <a:lnTo>
                    <a:pt x="1235" y="1785"/>
                  </a:lnTo>
                  <a:lnTo>
                    <a:pt x="1512" y="1642"/>
                  </a:lnTo>
                  <a:lnTo>
                    <a:pt x="1783" y="1532"/>
                  </a:lnTo>
                  <a:lnTo>
                    <a:pt x="2040" y="1429"/>
                  </a:lnTo>
                  <a:lnTo>
                    <a:pt x="2323" y="1331"/>
                  </a:lnTo>
                  <a:lnTo>
                    <a:pt x="2434" y="1292"/>
                  </a:lnTo>
                  <a:lnTo>
                    <a:pt x="2556" y="1255"/>
                  </a:lnTo>
                  <a:lnTo>
                    <a:pt x="2657" y="1228"/>
                  </a:lnTo>
                  <a:lnTo>
                    <a:pt x="2769" y="1217"/>
                  </a:lnTo>
                  <a:lnTo>
                    <a:pt x="2866" y="1212"/>
                  </a:lnTo>
                  <a:lnTo>
                    <a:pt x="2971" y="1224"/>
                  </a:lnTo>
                  <a:lnTo>
                    <a:pt x="3058" y="1240"/>
                  </a:lnTo>
                  <a:lnTo>
                    <a:pt x="3138" y="1267"/>
                  </a:lnTo>
                  <a:lnTo>
                    <a:pt x="3215" y="1304"/>
                  </a:lnTo>
                  <a:lnTo>
                    <a:pt x="3284" y="1360"/>
                  </a:lnTo>
                  <a:lnTo>
                    <a:pt x="3344" y="1437"/>
                  </a:lnTo>
                  <a:lnTo>
                    <a:pt x="3340" y="1362"/>
                  </a:lnTo>
                  <a:lnTo>
                    <a:pt x="3330" y="1310"/>
                  </a:lnTo>
                  <a:lnTo>
                    <a:pt x="3305" y="1242"/>
                  </a:lnTo>
                  <a:lnTo>
                    <a:pt x="3270" y="1185"/>
                  </a:lnTo>
                  <a:lnTo>
                    <a:pt x="3229" y="1133"/>
                  </a:lnTo>
                  <a:lnTo>
                    <a:pt x="3183" y="1082"/>
                  </a:lnTo>
                  <a:lnTo>
                    <a:pt x="2187" y="0"/>
                  </a:lnTo>
                  <a:lnTo>
                    <a:pt x="0" y="0"/>
                  </a:lnTo>
                  <a:lnTo>
                    <a:pt x="0" y="2976"/>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 name=""/>
            <p:cNvGrpSpPr/>
            <p:nvPr/>
          </p:nvGrpSpPr>
          <p:grpSpPr>
            <a:xfrm>
              <a:off x="0" y="0"/>
              <a:ext cx="5105520" cy="3984480"/>
              <a:chOff x="0" y="0"/>
              <a:chExt cx="5105520" cy="3984480"/>
            </a:xfrm>
          </p:grpSpPr>
          <p:sp>
            <p:nvSpPr>
              <p:cNvPr id="54" name=""/>
              <p:cNvSpPr/>
              <p:nvPr/>
            </p:nvSpPr>
            <p:spPr>
              <a:xfrm>
                <a:off x="0" y="0"/>
                <a:ext cx="3675240" cy="1378080"/>
              </a:xfrm>
              <a:custGeom>
                <a:avLst/>
                <a:gdLst/>
                <a:ahLst/>
                <a:rect l="l" t="t" r="r" b="b"/>
                <a:pathLst>
                  <a:path w="2315" h="868">
                    <a:moveTo>
                      <a:pt x="0" y="558"/>
                    </a:moveTo>
                    <a:lnTo>
                      <a:pt x="125" y="487"/>
                    </a:lnTo>
                    <a:lnTo>
                      <a:pt x="261" y="414"/>
                    </a:lnTo>
                    <a:lnTo>
                      <a:pt x="426" y="329"/>
                    </a:lnTo>
                    <a:lnTo>
                      <a:pt x="573" y="263"/>
                    </a:lnTo>
                    <a:lnTo>
                      <a:pt x="739" y="200"/>
                    </a:lnTo>
                    <a:lnTo>
                      <a:pt x="888" y="150"/>
                    </a:lnTo>
                    <a:lnTo>
                      <a:pt x="1081" y="94"/>
                    </a:lnTo>
                    <a:lnTo>
                      <a:pt x="1227" y="54"/>
                    </a:lnTo>
                    <a:lnTo>
                      <a:pt x="1349" y="29"/>
                    </a:lnTo>
                    <a:lnTo>
                      <a:pt x="1461" y="9"/>
                    </a:lnTo>
                    <a:lnTo>
                      <a:pt x="1614" y="4"/>
                    </a:lnTo>
                    <a:lnTo>
                      <a:pt x="2188" y="0"/>
                    </a:lnTo>
                    <a:lnTo>
                      <a:pt x="2314" y="133"/>
                    </a:lnTo>
                    <a:lnTo>
                      <a:pt x="2144" y="133"/>
                    </a:lnTo>
                    <a:lnTo>
                      <a:pt x="1982" y="141"/>
                    </a:lnTo>
                    <a:lnTo>
                      <a:pt x="1809" y="158"/>
                    </a:lnTo>
                    <a:lnTo>
                      <a:pt x="1669" y="179"/>
                    </a:lnTo>
                    <a:lnTo>
                      <a:pt x="1512" y="211"/>
                    </a:lnTo>
                    <a:lnTo>
                      <a:pt x="1378" y="241"/>
                    </a:lnTo>
                    <a:lnTo>
                      <a:pt x="1237" y="280"/>
                    </a:lnTo>
                    <a:lnTo>
                      <a:pt x="1111" y="322"/>
                    </a:lnTo>
                    <a:lnTo>
                      <a:pt x="1028" y="350"/>
                    </a:lnTo>
                    <a:lnTo>
                      <a:pt x="849" y="408"/>
                    </a:lnTo>
                    <a:lnTo>
                      <a:pt x="650" y="483"/>
                    </a:lnTo>
                    <a:lnTo>
                      <a:pt x="470" y="566"/>
                    </a:lnTo>
                    <a:lnTo>
                      <a:pt x="266" y="675"/>
                    </a:lnTo>
                    <a:lnTo>
                      <a:pt x="151" y="741"/>
                    </a:lnTo>
                    <a:lnTo>
                      <a:pt x="62" y="808"/>
                    </a:lnTo>
                    <a:lnTo>
                      <a:pt x="0" y="867"/>
                    </a:lnTo>
                    <a:lnTo>
                      <a:pt x="0" y="558"/>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455760"/>
                <a:ext cx="4487760" cy="2476440"/>
              </a:xfrm>
              <a:custGeom>
                <a:avLst/>
                <a:gdLst/>
                <a:ahLst/>
                <a:rect l="l" t="t" r="r" b="b"/>
                <a:pathLst>
                  <a:path w="2827" h="1560">
                    <a:moveTo>
                      <a:pt x="0" y="871"/>
                    </a:moveTo>
                    <a:lnTo>
                      <a:pt x="142" y="750"/>
                    </a:lnTo>
                    <a:lnTo>
                      <a:pt x="310" y="621"/>
                    </a:lnTo>
                    <a:lnTo>
                      <a:pt x="464" y="529"/>
                    </a:lnTo>
                    <a:lnTo>
                      <a:pt x="644" y="437"/>
                    </a:lnTo>
                    <a:lnTo>
                      <a:pt x="823" y="354"/>
                    </a:lnTo>
                    <a:lnTo>
                      <a:pt x="1027" y="279"/>
                    </a:lnTo>
                    <a:lnTo>
                      <a:pt x="1231" y="204"/>
                    </a:lnTo>
                    <a:lnTo>
                      <a:pt x="1430" y="145"/>
                    </a:lnTo>
                    <a:lnTo>
                      <a:pt x="1621" y="104"/>
                    </a:lnTo>
                    <a:lnTo>
                      <a:pt x="1801" y="62"/>
                    </a:lnTo>
                    <a:lnTo>
                      <a:pt x="1950" y="29"/>
                    </a:lnTo>
                    <a:lnTo>
                      <a:pt x="2123" y="4"/>
                    </a:lnTo>
                    <a:lnTo>
                      <a:pt x="2262" y="0"/>
                    </a:lnTo>
                    <a:lnTo>
                      <a:pt x="2390" y="1"/>
                    </a:lnTo>
                    <a:lnTo>
                      <a:pt x="2456" y="4"/>
                    </a:lnTo>
                    <a:lnTo>
                      <a:pt x="2826" y="407"/>
                    </a:lnTo>
                    <a:lnTo>
                      <a:pt x="2731" y="389"/>
                    </a:lnTo>
                    <a:lnTo>
                      <a:pt x="2612" y="379"/>
                    </a:lnTo>
                    <a:lnTo>
                      <a:pt x="2502" y="379"/>
                    </a:lnTo>
                    <a:lnTo>
                      <a:pt x="2367" y="391"/>
                    </a:lnTo>
                    <a:lnTo>
                      <a:pt x="2192" y="421"/>
                    </a:lnTo>
                    <a:lnTo>
                      <a:pt x="2080" y="443"/>
                    </a:lnTo>
                    <a:lnTo>
                      <a:pt x="1969" y="471"/>
                    </a:lnTo>
                    <a:lnTo>
                      <a:pt x="1714" y="537"/>
                    </a:lnTo>
                    <a:lnTo>
                      <a:pt x="1460" y="616"/>
                    </a:lnTo>
                    <a:lnTo>
                      <a:pt x="1269" y="691"/>
                    </a:lnTo>
                    <a:lnTo>
                      <a:pt x="1087" y="758"/>
                    </a:lnTo>
                    <a:lnTo>
                      <a:pt x="885" y="862"/>
                    </a:lnTo>
                    <a:lnTo>
                      <a:pt x="668" y="979"/>
                    </a:lnTo>
                    <a:lnTo>
                      <a:pt x="477" y="1104"/>
                    </a:lnTo>
                    <a:lnTo>
                      <a:pt x="347" y="1197"/>
                    </a:lnTo>
                    <a:lnTo>
                      <a:pt x="232" y="1297"/>
                    </a:lnTo>
                    <a:lnTo>
                      <a:pt x="133" y="1396"/>
                    </a:lnTo>
                    <a:lnTo>
                      <a:pt x="0" y="1559"/>
                    </a:lnTo>
                    <a:lnTo>
                      <a:pt x="0" y="871"/>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1322280"/>
                <a:ext cx="5105520" cy="2662200"/>
              </a:xfrm>
              <a:custGeom>
                <a:avLst/>
                <a:gdLst/>
                <a:ahLst/>
                <a:rect l="l" t="t" r="r" b="b"/>
                <a:pathLst>
                  <a:path w="3216" h="1677">
                    <a:moveTo>
                      <a:pt x="0" y="1342"/>
                    </a:moveTo>
                    <a:lnTo>
                      <a:pt x="74" y="1250"/>
                    </a:lnTo>
                    <a:lnTo>
                      <a:pt x="198" y="1110"/>
                    </a:lnTo>
                    <a:lnTo>
                      <a:pt x="321" y="995"/>
                    </a:lnTo>
                    <a:lnTo>
                      <a:pt x="426" y="901"/>
                    </a:lnTo>
                    <a:lnTo>
                      <a:pt x="501" y="835"/>
                    </a:lnTo>
                    <a:lnTo>
                      <a:pt x="588" y="771"/>
                    </a:lnTo>
                    <a:lnTo>
                      <a:pt x="687" y="700"/>
                    </a:lnTo>
                    <a:lnTo>
                      <a:pt x="842" y="608"/>
                    </a:lnTo>
                    <a:lnTo>
                      <a:pt x="1016" y="508"/>
                    </a:lnTo>
                    <a:lnTo>
                      <a:pt x="1226" y="408"/>
                    </a:lnTo>
                    <a:lnTo>
                      <a:pt x="1430" y="316"/>
                    </a:lnTo>
                    <a:lnTo>
                      <a:pt x="1616" y="250"/>
                    </a:lnTo>
                    <a:lnTo>
                      <a:pt x="1821" y="183"/>
                    </a:lnTo>
                    <a:lnTo>
                      <a:pt x="2018" y="125"/>
                    </a:lnTo>
                    <a:lnTo>
                      <a:pt x="2223" y="75"/>
                    </a:lnTo>
                    <a:lnTo>
                      <a:pt x="2427" y="37"/>
                    </a:lnTo>
                    <a:lnTo>
                      <a:pt x="2576" y="16"/>
                    </a:lnTo>
                    <a:lnTo>
                      <a:pt x="2732" y="1"/>
                    </a:lnTo>
                    <a:lnTo>
                      <a:pt x="2854" y="0"/>
                    </a:lnTo>
                    <a:lnTo>
                      <a:pt x="2966" y="9"/>
                    </a:lnTo>
                    <a:lnTo>
                      <a:pt x="3215" y="273"/>
                    </a:lnTo>
                    <a:lnTo>
                      <a:pt x="3109" y="208"/>
                    </a:lnTo>
                    <a:lnTo>
                      <a:pt x="3017" y="175"/>
                    </a:lnTo>
                    <a:lnTo>
                      <a:pt x="2921" y="163"/>
                    </a:lnTo>
                    <a:lnTo>
                      <a:pt x="2836" y="166"/>
                    </a:lnTo>
                    <a:lnTo>
                      <a:pt x="2743" y="172"/>
                    </a:lnTo>
                    <a:lnTo>
                      <a:pt x="2644" y="183"/>
                    </a:lnTo>
                    <a:lnTo>
                      <a:pt x="2526" y="204"/>
                    </a:lnTo>
                    <a:lnTo>
                      <a:pt x="2421" y="225"/>
                    </a:lnTo>
                    <a:lnTo>
                      <a:pt x="2180" y="283"/>
                    </a:lnTo>
                    <a:lnTo>
                      <a:pt x="1907" y="358"/>
                    </a:lnTo>
                    <a:lnTo>
                      <a:pt x="1715" y="425"/>
                    </a:lnTo>
                    <a:lnTo>
                      <a:pt x="1523" y="500"/>
                    </a:lnTo>
                    <a:lnTo>
                      <a:pt x="1300" y="600"/>
                    </a:lnTo>
                    <a:lnTo>
                      <a:pt x="1090" y="708"/>
                    </a:lnTo>
                    <a:lnTo>
                      <a:pt x="873" y="833"/>
                    </a:lnTo>
                    <a:lnTo>
                      <a:pt x="764" y="908"/>
                    </a:lnTo>
                    <a:lnTo>
                      <a:pt x="663" y="983"/>
                    </a:lnTo>
                    <a:lnTo>
                      <a:pt x="488" y="1125"/>
                    </a:lnTo>
                    <a:lnTo>
                      <a:pt x="358" y="1259"/>
                    </a:lnTo>
                    <a:lnTo>
                      <a:pt x="235" y="1392"/>
                    </a:lnTo>
                    <a:lnTo>
                      <a:pt x="108" y="1538"/>
                    </a:lnTo>
                    <a:lnTo>
                      <a:pt x="0" y="1676"/>
                    </a:lnTo>
                    <a:lnTo>
                      <a:pt x="0" y="134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D077-18A8-47D6-B53B-1AC541046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cond Outline Level</a:t>
            </a:r>
            <a:endParaRPr b="0" i="1" lang="en-US" sz="2800" spc="-1" strike="noStrike">
              <a:solidFill>
                <a:srgbClr val="ffffff"/>
              </a:solidFill>
              <a:latin typeface="Arial"/>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ird Outline Level</a:t>
            </a:r>
            <a:endParaRPr b="0" i="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urth Outline Level</a:t>
            </a:r>
            <a:endParaRPr b="0" i="1"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fth Outline Level</a:t>
            </a:r>
            <a:endParaRPr b="0" i="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xth Outline Level</a:t>
            </a:r>
            <a:endParaRPr b="0" i="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venth Outline Level</a:t>
            </a:r>
            <a:endParaRPr b="0" i="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9"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Human Rights:  </a:t>
            </a:r>
            <a:br>
              <a:rPr sz="4000"/>
            </a:br>
            <a:r>
              <a:rPr b="0" i="1" lang="en-US" sz="4000" spc="-1" strike="noStrike">
                <a:solidFill>
                  <a:srgbClr val="000000"/>
                </a:solidFill>
                <a:latin typeface="Arial"/>
              </a:rPr>
              <a:t>What Rights Do All People Have?</a:t>
            </a:r>
            <a:endParaRPr b="0" i="1" lang="en-US" sz="4000" spc="-1" strike="noStrike">
              <a:solidFill>
                <a:srgbClr val="ffcc00"/>
              </a:solidFill>
              <a:latin typeface="Arial"/>
            </a:endParaRPr>
          </a:p>
        </p:txBody>
      </p:sp>
      <p:sp>
        <p:nvSpPr>
          <p:cNvPr id="10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6th Grade E2T2 Unit</a:t>
            </a:r>
            <a:endParaRPr b="0" i="1" lang="en-US" sz="32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a Life Beyond a Refugee Camp</a:t>
            </a:r>
            <a:endParaRPr b="0" i="1" lang="en-US" sz="4400" spc="-1" strike="noStrike">
              <a:solidFill>
                <a:srgbClr val="ffcc00"/>
              </a:solidFill>
              <a:latin typeface="Arial"/>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esn’t the little boy in front look American?  Well, he would be if his American father had claimed him. Instead he grew up in a refugee camp in Thailand.</a:t>
            </a:r>
            <a:endParaRPr b="0" i="1" lang="en-US" sz="2800" spc="-1" strike="noStrike">
              <a:solidFill>
                <a:srgbClr val="ffffff"/>
              </a:solidFill>
              <a:latin typeface="Arial"/>
            </a:endParaRPr>
          </a:p>
        </p:txBody>
      </p:sp>
      <p:pic>
        <p:nvPicPr>
          <p:cNvPr id="144" name="" descr=""/>
          <p:cNvPicPr/>
          <p:nvPr/>
        </p:nvPicPr>
        <p:blipFill>
          <a:blip r:embed="rId1"/>
          <a:stretch/>
        </p:blipFill>
        <p:spPr>
          <a:xfrm>
            <a:off x="4648320" y="2714760"/>
            <a:ext cx="3809880" cy="26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Hope &amp; Dreams</a:t>
            </a:r>
            <a:endParaRPr b="0" i="1" lang="en-US" sz="4400" spc="-1" strike="noStrike">
              <a:solidFill>
                <a:srgbClr val="ffcc00"/>
              </a:solidFill>
              <a:latin typeface="Arial"/>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bombs landed in Eden, Iraq, they weren’t from the US, they were from Saddam Hussein who destroyed their beautiful valley by turning off the water and drying up their livelihood.  Then he bombed it to quell the rebellion.</a:t>
            </a:r>
            <a:endParaRPr b="0" i="1" lang="en-US" sz="2400" spc="-1" strike="noStrike">
              <a:solidFill>
                <a:srgbClr val="ffffff"/>
              </a:solidFill>
              <a:latin typeface="Arial"/>
            </a:endParaRPr>
          </a:p>
        </p:txBody>
      </p:sp>
      <p:pic>
        <p:nvPicPr>
          <p:cNvPr id="149" name="" descr=""/>
          <p:cNvPicPr/>
          <p:nvPr/>
        </p:nvPicPr>
        <p:blipFill>
          <a:blip r:embed="rId1"/>
          <a:stretch/>
        </p:blipFill>
        <p:spPr>
          <a:xfrm>
            <a:off x="4648320" y="2762280"/>
            <a:ext cx="3809880" cy="255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a Free Press</a:t>
            </a:r>
            <a:endParaRPr b="0" i="1" lang="en-US" sz="4400" spc="-1" strike="noStrike">
              <a:solidFill>
                <a:srgbClr val="ffcc00"/>
              </a:solidFill>
              <a:latin typeface="Arial"/>
            </a:endParaRPr>
          </a:p>
        </p:txBody>
      </p:sp>
      <p:sp>
        <p:nvSpPr>
          <p:cNvPr id="153" name="PlaceHolder 2"/>
          <p:cNvSpPr>
            <a:spLocks noGrp="1"/>
          </p:cNvSpPr>
          <p:nvPr>
            <p:ph/>
          </p:nvPr>
        </p:nvSpPr>
        <p:spPr>
          <a:xfrm>
            <a:off x="4643280" y="1981080"/>
            <a:ext cx="39672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haps you can only appreciate a free press when it is not allowed to  record events happening in your country. This Reuter’s cameraman was filming a human rights activist in Cuba when confronted by Cuban communists who were angry at both the activists and him.</a:t>
            </a:r>
            <a:endParaRPr b="0" i="1" lang="en-US" sz="2400" spc="-1" strike="noStrike">
              <a:solidFill>
                <a:srgbClr val="ffffff"/>
              </a:solidFill>
              <a:latin typeface="Arial"/>
            </a:endParaRPr>
          </a:p>
        </p:txBody>
      </p:sp>
      <p:pic>
        <p:nvPicPr>
          <p:cNvPr id="154" name="" descr=""/>
          <p:cNvPicPr/>
          <p:nvPr/>
        </p:nvPicPr>
        <p:blipFill>
          <a:blip r:embed="rId1"/>
          <a:stretch/>
        </p:blipFill>
        <p:spPr>
          <a:xfrm>
            <a:off x="685800" y="2565360"/>
            <a:ext cx="3809880" cy="294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Live and Work</a:t>
            </a:r>
            <a:endParaRPr b="0" i="1" lang="en-US" sz="4400" spc="-1" strike="noStrike">
              <a:solidFill>
                <a:srgbClr val="ffcc00"/>
              </a:solidFill>
              <a:latin typeface="Arial"/>
            </a:endParaRPr>
          </a:p>
        </p:txBody>
      </p:sp>
      <p:sp>
        <p:nvSpPr>
          <p:cNvPr id="1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se Chinese women are protesting the fact that they are not allowed to work and to help feed their families.  Women are always laid off in China before men.</a:t>
            </a:r>
            <a:endParaRPr b="0" i="1" lang="en-US" sz="2800" spc="-1" strike="noStrike">
              <a:solidFill>
                <a:srgbClr val="ffffff"/>
              </a:solidFill>
              <a:latin typeface="Arial"/>
            </a:endParaRPr>
          </a:p>
        </p:txBody>
      </p:sp>
      <p:pic>
        <p:nvPicPr>
          <p:cNvPr id="159" name="" descr=""/>
          <p:cNvPicPr/>
          <p:nvPr/>
        </p:nvPicPr>
        <p:blipFill>
          <a:blip r:embed="rId1"/>
          <a:stretch/>
        </p:blipFill>
        <p:spPr>
          <a:xfrm>
            <a:off x="4648320" y="2030400"/>
            <a:ext cx="3809880" cy="401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Protest</a:t>
            </a:r>
            <a:endParaRPr b="0" i="1" lang="en-US" sz="4400" spc="-1" strike="noStrike">
              <a:solidFill>
                <a:srgbClr val="ffcc00"/>
              </a:solidFill>
              <a:latin typeface="Arial"/>
            </a:endParaRPr>
          </a:p>
        </p:txBody>
      </p:sp>
      <p:sp>
        <p:nvSpPr>
          <p:cNvPr id="163" name="PlaceHolder 2"/>
          <p:cNvSpPr>
            <a:spLocks noGrp="1"/>
          </p:cNvSpPr>
          <p:nvPr>
            <p:ph/>
          </p:nvPr>
        </p:nvSpPr>
        <p:spPr>
          <a:xfrm>
            <a:off x="4643280" y="1752480"/>
            <a:ext cx="4119840" cy="4572000"/>
          </a:xfrm>
          <a:prstGeom prst="rect">
            <a:avLst/>
          </a:prstGeom>
          <a:noFill/>
          <a:ln w="0">
            <a:noFill/>
          </a:ln>
        </p:spPr>
        <p:txBody>
          <a:bodyPr lIns="92160" rIns="92160" tIns="46080" bIns="4608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out 50 demonstrators, mostly members of Christian rights groups, are holding a sit-in to protest the expansion of a Jewish settlement in the Arab neighborhood of Silwan and are forcefully removed by Israeli border police. Note that these are not Palestinians but are protestors from other countries who have come to support them.</a:t>
            </a:r>
            <a:endParaRPr b="0" i="1" lang="en-US" sz="2400" spc="-1" strike="noStrike">
              <a:solidFill>
                <a:srgbClr val="ffffff"/>
              </a:solidFill>
              <a:latin typeface="Arial"/>
            </a:endParaRPr>
          </a:p>
        </p:txBody>
      </p:sp>
      <p:pic>
        <p:nvPicPr>
          <p:cNvPr id="164" name="" descr=""/>
          <p:cNvPicPr/>
          <p:nvPr/>
        </p:nvPicPr>
        <p:blipFill>
          <a:blip r:embed="rId1"/>
          <a:stretch/>
        </p:blipFill>
        <p:spPr>
          <a:xfrm>
            <a:off x="685800" y="2624040"/>
            <a:ext cx="3809880" cy="282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6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Stay in Your Own Home</a:t>
            </a:r>
            <a:endParaRPr b="0" i="1" lang="en-US" sz="4400" spc="-1" strike="noStrike">
              <a:solidFill>
                <a:srgbClr val="ffcc00"/>
              </a:solidFill>
              <a:latin typeface="Arial"/>
            </a:endParaRPr>
          </a:p>
        </p:txBody>
      </p:sp>
      <p:sp>
        <p:nvSpPr>
          <p:cNvPr id="16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d here is a three-year old Guatemalan refugee at a Red Cross shelter in Brownsville, Texas.  His mother and infant sister sit in the background.  Forced to leave their home due to political views, they took sanctuary in the United States.</a:t>
            </a:r>
            <a:endParaRPr b="0" i="1" lang="en-US" sz="2400" spc="-1" strike="noStrike">
              <a:solidFill>
                <a:srgbClr val="ffffff"/>
              </a:solidFill>
              <a:latin typeface="Arial"/>
            </a:endParaRPr>
          </a:p>
        </p:txBody>
      </p:sp>
      <p:pic>
        <p:nvPicPr>
          <p:cNvPr id="169" name="" descr=""/>
          <p:cNvPicPr/>
          <p:nvPr/>
        </p:nvPicPr>
        <p:blipFill>
          <a:blip r:embed="rId1"/>
          <a:stretch/>
        </p:blipFill>
        <p:spPr>
          <a:xfrm>
            <a:off x="5162400" y="1981080"/>
            <a:ext cx="27799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Come Home</a:t>
            </a:r>
            <a:endParaRPr b="0" i="1" lang="en-US" sz="4400" spc="-1" strike="noStrike">
              <a:solidFill>
                <a:srgbClr val="ffcc00"/>
              </a:solidFill>
              <a:latin typeface="Arial"/>
            </a:endParaRPr>
          </a:p>
        </p:txBody>
      </p:sp>
      <p:sp>
        <p:nvSpPr>
          <p:cNvPr id="173"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ter Begne, posing with her young daughters, was imprisoned in Ethiopia for eight months before being allowed to return to the United States and be reunited with her husband. Another case of a government making anyone that disagrees a political prisoner.</a:t>
            </a:r>
            <a:endParaRPr b="0" i="1" lang="en-US" sz="2400" spc="-1" strike="noStrike">
              <a:solidFill>
                <a:srgbClr val="ffffff"/>
              </a:solidFill>
              <a:latin typeface="Arial"/>
            </a:endParaRPr>
          </a:p>
        </p:txBody>
      </p:sp>
      <p:pic>
        <p:nvPicPr>
          <p:cNvPr id="174" name="" descr=""/>
          <p:cNvPicPr/>
          <p:nvPr/>
        </p:nvPicPr>
        <p:blipFill>
          <a:blip r:embed="rId1"/>
          <a:stretch/>
        </p:blipFill>
        <p:spPr>
          <a:xfrm>
            <a:off x="4648320" y="2509920"/>
            <a:ext cx="3809880" cy="305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Thank Goodness, People Are Beginning to Fight for Human Rights</a:t>
            </a:r>
            <a:endParaRPr b="0" i="1" lang="en-US" sz="3600" spc="-1" strike="noStrike">
              <a:solidFill>
                <a:srgbClr val="ffcc00"/>
              </a:solidFill>
              <a:latin typeface="Arial"/>
            </a:endParaRPr>
          </a:p>
        </p:txBody>
      </p:sp>
      <p:sp>
        <p:nvSpPr>
          <p:cNvPr id="178" name="PlaceHolder 2"/>
          <p:cNvSpPr>
            <a:spLocks noGrp="1"/>
          </p:cNvSpPr>
          <p:nvPr>
            <p:ph/>
          </p:nvPr>
        </p:nvSpPr>
        <p:spPr>
          <a:xfrm>
            <a:off x="4800600" y="1981080"/>
            <a:ext cx="3819600" cy="4114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wn here in Santiago, </a:t>
            </a:r>
            <a:r>
              <a:rPr b="0" i="1" lang="en-US" sz="2000" spc="-1" strike="noStrike">
                <a:solidFill>
                  <a:srgbClr val="000000"/>
                </a:solidFill>
                <a:latin typeface="Arial"/>
              </a:rPr>
              <a:t>Chile are protestors with their sign asking for truth (verdad) and justice (justicia).  These are relatives of dissidents who disappeared forever after being arrested. The march in August, 2003, shows there are people who never forget the injustices done to them or their friends and relatives.</a:t>
            </a:r>
            <a:r>
              <a:rPr b="0" i="1" lang="en-US" sz="2400" spc="-1" strike="noStrike">
                <a:solidFill>
                  <a:srgbClr val="000000"/>
                </a:solidFill>
                <a:latin typeface="Arial"/>
              </a:rPr>
              <a:t>  </a:t>
            </a:r>
            <a:endParaRPr b="0" i="1" lang="en-US" sz="2400" spc="-1" strike="noStrike">
              <a:solidFill>
                <a:srgbClr val="ffffff"/>
              </a:solidFill>
              <a:latin typeface="Arial"/>
            </a:endParaRPr>
          </a:p>
        </p:txBody>
      </p:sp>
      <p:pic>
        <p:nvPicPr>
          <p:cNvPr id="179" name="" descr=""/>
          <p:cNvPicPr/>
          <p:nvPr/>
        </p:nvPicPr>
        <p:blipFill>
          <a:blip r:embed="rId1"/>
          <a:stretch/>
        </p:blipFill>
        <p:spPr>
          <a:xfrm>
            <a:off x="685800" y="2728800"/>
            <a:ext cx="3809880" cy="26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8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March to Protest Injustices</a:t>
            </a:r>
            <a:endParaRPr b="0" i="1" lang="en-US" sz="4400" spc="-1" strike="noStrike">
              <a:solidFill>
                <a:srgbClr val="ffcc00"/>
              </a:solidFill>
              <a:latin typeface="Arial"/>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marches took place in Japan just last year.  They are holding portraits of followers who live in China and who the Chinese government  have been routinely persecuting and killing all members of their sect.</a:t>
            </a:r>
            <a:endParaRPr b="0" i="1" lang="en-US" sz="2400" spc="-1" strike="noStrike">
              <a:solidFill>
                <a:srgbClr val="ffffff"/>
              </a:solidFill>
              <a:latin typeface="Arial"/>
            </a:endParaRPr>
          </a:p>
        </p:txBody>
      </p:sp>
      <p:pic>
        <p:nvPicPr>
          <p:cNvPr id="184" name="" descr=""/>
          <p:cNvPicPr/>
          <p:nvPr/>
        </p:nvPicPr>
        <p:blipFill>
          <a:blip r:embed="rId1"/>
          <a:stretch/>
        </p:blipFill>
        <p:spPr>
          <a:xfrm>
            <a:off x="685800" y="277020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they protest racism in the world</a:t>
            </a:r>
            <a:endParaRPr b="0" i="1" lang="en-US" sz="4400" spc="-1" strike="noStrike">
              <a:solidFill>
                <a:srgbClr val="ffcc00"/>
              </a:solidFill>
              <a:latin typeface="Arial"/>
            </a:endParaRPr>
          </a:p>
        </p:txBody>
      </p:sp>
      <p:sp>
        <p:nvSpPr>
          <p:cNvPr id="188" name="PlaceHolder 2"/>
          <p:cNvSpPr>
            <a:spLocks noGrp="1"/>
          </p:cNvSpPr>
          <p:nvPr>
            <p:ph/>
          </p:nvPr>
        </p:nvSpPr>
        <p:spPr>
          <a:xfrm>
            <a:off x="4647960" y="2514600"/>
            <a:ext cx="4005000" cy="36576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2001, a World Conference was held in Durban, South Africa.  This African woman hung a wonderful sign against racism. It reads, “Racism makes Refugees.”  In Africa and throughout the world it certainly has done just that.</a:t>
            </a:r>
            <a:endParaRPr b="0" i="1" lang="en-US" sz="2400" spc="-1" strike="noStrike">
              <a:solidFill>
                <a:srgbClr val="ffffff"/>
              </a:solidFill>
              <a:latin typeface="Arial"/>
            </a:endParaRPr>
          </a:p>
        </p:txBody>
      </p:sp>
      <p:pic>
        <p:nvPicPr>
          <p:cNvPr id="189" name="" descr=""/>
          <p:cNvPicPr/>
          <p:nvPr/>
        </p:nvPicPr>
        <p:blipFill>
          <a:blip r:embed="rId1"/>
          <a:stretch/>
        </p:blipFill>
        <p:spPr>
          <a:xfrm>
            <a:off x="685800" y="2787480"/>
            <a:ext cx="3809880" cy="250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halom Asalaam-A Song of Hope Created by Israeli &amp; Arab Children</a:t>
            </a:r>
            <a:br>
              <a:rPr sz="3600"/>
            </a:br>
            <a:r>
              <a:rPr b="0" i="1" lang="en-US" sz="1400" spc="-1" strike="noStrike">
                <a:solidFill>
                  <a:srgbClr val="000000"/>
                </a:solidFill>
                <a:latin typeface="Arial"/>
              </a:rPr>
              <a:t>Shalom is the Hebrew word for peace; Asalaam the Arabic</a:t>
            </a:r>
            <a:endParaRPr b="0" i="1" lang="en-US" sz="1400" spc="-1" strike="noStrike">
              <a:solidFill>
                <a:srgbClr val="ffcc00"/>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nce the dawn of time</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e’ve been waging wars</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hiding our love behind locked doors</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ing fear to dominate and control</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e’ve been fighting against, our very own soul.</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w we stand on the brink of a new frontier</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the power of peace is becoming clear</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s going to take all our courage to make a new start</a:t>
            </a:r>
            <a:endParaRPr b="0" i="1" lang="en-US" sz="1800" spc="-1" strike="noStrike">
              <a:solidFill>
                <a:srgbClr val="ffffff"/>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s going to take a revolution of the heart.</a:t>
            </a:r>
            <a:endParaRPr b="0" i="1" lang="en-US" sz="18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a new kind of freedom, We’ve never known bef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deeper understanding,  because we know a lot m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 just keep going,we don’t look back</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ay focused on the light, and you’ll stay on track.</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new kind of love, stronger than bef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lowing like a river, right to the cor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re finding our freedom, we’re finding our peac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e’ll find it together, and the wars will cease.</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s going to take a revolution of the heart</a:t>
            </a:r>
            <a:endParaRPr b="0" i="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revolution of the heart.</a:t>
            </a:r>
            <a:endParaRPr b="0" i="1"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d in Jakarta, Indonesia women cry for help for poor people</a:t>
            </a:r>
            <a:endParaRPr b="0" i="1" lang="en-US" sz="3200" spc="-1" strike="noStrike">
              <a:solidFill>
                <a:srgbClr val="ffcc00"/>
              </a:solidFill>
              <a:latin typeface="Arial"/>
            </a:endParaRPr>
          </a:p>
        </p:txBody>
      </p:sp>
      <p:sp>
        <p:nvSpPr>
          <p:cNvPr id="19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men of various ethnic minorities joined at the Welcome Monument in Jakarta for a rally calling for more rights for the poor people and those caught in the caste system.</a:t>
            </a:r>
            <a:endParaRPr b="0" i="1" lang="en-US" sz="2800" spc="-1" strike="noStrike">
              <a:solidFill>
                <a:srgbClr val="ffffff"/>
              </a:solidFill>
              <a:latin typeface="Arial"/>
            </a:endParaRPr>
          </a:p>
        </p:txBody>
      </p:sp>
      <p:pic>
        <p:nvPicPr>
          <p:cNvPr id="194" name="" descr=""/>
          <p:cNvPicPr/>
          <p:nvPr/>
        </p:nvPicPr>
        <p:blipFill>
          <a:blip r:embed="rId1"/>
          <a:stretch/>
        </p:blipFill>
        <p:spPr>
          <a:xfrm>
            <a:off x="4648320" y="2832120"/>
            <a:ext cx="3809880" cy="24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they speak out in D.C.</a:t>
            </a:r>
            <a:endParaRPr b="0" i="1" lang="en-US" sz="4400" spc="-1" strike="noStrike">
              <a:solidFill>
                <a:srgbClr val="ffcc00"/>
              </a:solidFill>
              <a:latin typeface="Arial"/>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Chinese dissident testifies on the atrocities he has seen in China, asking our Congress to condemn China for their continued human rights abuses.</a:t>
            </a:r>
            <a:endParaRPr b="0" i="1" lang="en-US" sz="2800" spc="-1" strike="noStrike">
              <a:solidFill>
                <a:srgbClr val="ffffff"/>
              </a:solidFill>
              <a:latin typeface="Arial"/>
            </a:endParaRPr>
          </a:p>
        </p:txBody>
      </p:sp>
      <p:pic>
        <p:nvPicPr>
          <p:cNvPr id="199" name="" descr=""/>
          <p:cNvPicPr/>
          <p:nvPr/>
        </p:nvPicPr>
        <p:blipFill>
          <a:blip r:embed="rId1"/>
          <a:stretch/>
        </p:blipFill>
        <p:spPr>
          <a:xfrm>
            <a:off x="685800" y="2706840"/>
            <a:ext cx="3809880" cy="266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Some Voices Are Heard</a:t>
            </a:r>
            <a:endParaRPr b="0" i="1" lang="en-US" sz="4400" spc="-1" strike="noStrike">
              <a:solidFill>
                <a:srgbClr val="ffcc00"/>
              </a:solidFill>
              <a:latin typeface="Arial"/>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famous Afghan poet, Jamila Mujahid, is shown in her office with a friend.  She won the Freedom Prize Crystal Medal in Washington in 2002 for her struggle for women rights during the Taliban’s anti-women’s rights regime. Her writings supported many women through terrible times for many years in Afghanistan.</a:t>
            </a:r>
            <a:r>
              <a:rPr b="0" i="1" lang="en-US" sz="2400" spc="-1" strike="noStrike">
                <a:solidFill>
                  <a:srgbClr val="000000"/>
                </a:solidFill>
                <a:latin typeface="Arial"/>
              </a:rPr>
              <a:t> </a:t>
            </a:r>
            <a:endParaRPr b="0" i="1" lang="en-US" sz="2400" spc="-1" strike="noStrike">
              <a:solidFill>
                <a:srgbClr val="ffffff"/>
              </a:solidFill>
              <a:latin typeface="Arial"/>
            </a:endParaRPr>
          </a:p>
        </p:txBody>
      </p:sp>
      <p:pic>
        <p:nvPicPr>
          <p:cNvPr id="204" name="" descr=""/>
          <p:cNvPicPr/>
          <p:nvPr/>
        </p:nvPicPr>
        <p:blipFill>
          <a:blip r:embed="rId1"/>
          <a:stretch/>
        </p:blipFill>
        <p:spPr>
          <a:xfrm>
            <a:off x="4648320" y="277020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0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actions are taken</a:t>
            </a:r>
            <a:endParaRPr b="0" i="1" lang="en-US" sz="4400" spc="-1" strike="noStrike">
              <a:solidFill>
                <a:srgbClr val="ffcc00"/>
              </a:solidFill>
              <a:latin typeface="Arial"/>
            </a:endParaRPr>
          </a:p>
        </p:txBody>
      </p:sp>
      <p:sp>
        <p:nvSpPr>
          <p:cNvPr id="208" name="PlaceHolder 2"/>
          <p:cNvSpPr>
            <a:spLocks noGrp="1"/>
          </p:cNvSpPr>
          <p:nvPr>
            <p:ph/>
          </p:nvPr>
        </p:nvSpPr>
        <p:spPr>
          <a:xfrm>
            <a:off x="304560" y="1981080"/>
            <a:ext cx="419076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eting is the Board of the Americas division of Human Rights Watch which includes all of the Americas---North and South.  They are preparing a report on Colombia, who has recruited or forced more than 11,000 children into their ranks, made them commit massacres and even execute other minors who tried to desert.  The report is entitled, “You’ll Learn Not to Cry: Child Combatants in Colombia.”</a:t>
            </a:r>
            <a:endParaRPr b="0" i="1" lang="en-US" sz="2000" spc="-1" strike="noStrike">
              <a:solidFill>
                <a:srgbClr val="ffffff"/>
              </a:solidFill>
              <a:latin typeface="Arial"/>
            </a:endParaRPr>
          </a:p>
        </p:txBody>
      </p:sp>
      <p:pic>
        <p:nvPicPr>
          <p:cNvPr id="209" name="" descr=""/>
          <p:cNvPicPr/>
          <p:nvPr/>
        </p:nvPicPr>
        <p:blipFill>
          <a:blip r:embed="rId1"/>
          <a:stretch/>
        </p:blipFill>
        <p:spPr>
          <a:xfrm>
            <a:off x="4648320" y="2643120"/>
            <a:ext cx="3809880" cy="27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1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d sometimes declarations made</a:t>
            </a:r>
            <a:endParaRPr b="0" i="1" lang="en-US" sz="4400" spc="-1" strike="noStrike">
              <a:solidFill>
                <a:srgbClr val="ffcc00"/>
              </a:solidFill>
              <a:latin typeface="Arial"/>
            </a:endParaRPr>
          </a:p>
        </p:txBody>
      </p:sp>
      <p:sp>
        <p:nvSpPr>
          <p:cNvPr id="21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own here is President Clinton joined by women activists signing a human rights declaration as part of International Human Rights Day. It’s a great message and a great  political photo opportunity…but the question is, “What difference does it make?”</a:t>
            </a:r>
            <a:endParaRPr b="0" i="1" lang="en-US" sz="2400" spc="-1" strike="noStrike">
              <a:solidFill>
                <a:srgbClr val="ffffff"/>
              </a:solidFill>
              <a:latin typeface="Arial"/>
            </a:endParaRPr>
          </a:p>
        </p:txBody>
      </p:sp>
      <p:pic>
        <p:nvPicPr>
          <p:cNvPr id="214" name="" descr=""/>
          <p:cNvPicPr/>
          <p:nvPr/>
        </p:nvPicPr>
        <p:blipFill>
          <a:blip r:embed="rId1"/>
          <a:stretch/>
        </p:blipFill>
        <p:spPr>
          <a:xfrm>
            <a:off x="1076400" y="198108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1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Heroes Who Act Are Sometimes Honored For Their Great Courage and Deeds </a:t>
            </a:r>
            <a:endParaRPr b="0" i="1" lang="en-US" sz="3600" spc="-1" strike="noStrike">
              <a:solidFill>
                <a:srgbClr val="ffcc00"/>
              </a:solidFill>
              <a:latin typeface="Arial"/>
            </a:endParaRPr>
          </a:p>
        </p:txBody>
      </p:sp>
      <p:sp>
        <p:nvSpPr>
          <p:cNvPr id="218" name="PlaceHolder 2"/>
          <p:cNvSpPr>
            <a:spLocks noGrp="1"/>
          </p:cNvSpPr>
          <p:nvPr>
            <p:ph/>
          </p:nvPr>
        </p:nvSpPr>
        <p:spPr>
          <a:xfrm>
            <a:off x="304560" y="1981080"/>
            <a:ext cx="42670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d by his hero father, Cesar Chavez, is his son who is admiring the stamp being produced in his honor. Chavez led the way for migrant workers and faced grave danger while insisting California change the ways migrants were treated and paid. Like Martin Luther King, he was a great civil rights leader.</a:t>
            </a:r>
            <a:endParaRPr b="0" i="1" lang="en-US" sz="2400" spc="-1" strike="noStrike">
              <a:solidFill>
                <a:srgbClr val="ffffff"/>
              </a:solidFill>
              <a:latin typeface="Arial"/>
            </a:endParaRPr>
          </a:p>
        </p:txBody>
      </p:sp>
      <p:pic>
        <p:nvPicPr>
          <p:cNvPr id="219" name="" descr=""/>
          <p:cNvPicPr/>
          <p:nvPr/>
        </p:nvPicPr>
        <p:blipFill>
          <a:blip r:embed="rId1"/>
          <a:stretch/>
        </p:blipFill>
        <p:spPr>
          <a:xfrm>
            <a:off x="4648320" y="2787480"/>
            <a:ext cx="3809880" cy="250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uman Rights Activists Can Change the Lives of Men, Women and Children Everywhere</a:t>
            </a:r>
            <a:endParaRPr b="0" i="1" lang="en-US" sz="3600" spc="-1" strike="noStrike">
              <a:solidFill>
                <a:srgbClr val="ffcc00"/>
              </a:solidFill>
              <a:latin typeface="Arial"/>
            </a:endParaRPr>
          </a:p>
        </p:txBody>
      </p:sp>
      <p:sp>
        <p:nvSpPr>
          <p:cNvPr id="22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this picture a Burmese child stands close to candles lit by activists of India during a candle light procession to mark World Human Rights Day, 2002.  The activists are demanding an end to human rights violations by the Burmese military regime.</a:t>
            </a:r>
            <a:endParaRPr b="0" i="1" lang="en-US" sz="2400" spc="-1" strike="noStrike">
              <a:solidFill>
                <a:srgbClr val="ffffff"/>
              </a:solidFill>
              <a:latin typeface="Arial"/>
            </a:endParaRPr>
          </a:p>
        </p:txBody>
      </p:sp>
      <p:pic>
        <p:nvPicPr>
          <p:cNvPr id="224" name="" descr=""/>
          <p:cNvPicPr/>
          <p:nvPr/>
        </p:nvPicPr>
        <p:blipFill>
          <a:blip r:embed="rId1"/>
          <a:stretch/>
        </p:blipFill>
        <p:spPr>
          <a:xfrm>
            <a:off x="685800" y="2709720"/>
            <a:ext cx="3809880" cy="265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this unit is all about</a:t>
            </a:r>
            <a:endParaRPr b="0" i="1" lang="en-US" sz="4400" spc="-1" strike="noStrike">
              <a:solidFill>
                <a:srgbClr val="ffcc00"/>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the next two weeks, you will be reading different articles about human rights activities past and present. During this time, you will be learning  strategies to help you read this kind of informational text---whether it be in science, social studies, or other classrooms.  You will have many opportunities to work with others and to share what you have read.  At the end of the unit  you will be asked to use what you have read and write your new understanding of rights all citizens should---or should not--- enjoy.</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ow Does The World Treat Its Citizens?</a:t>
            </a:r>
            <a:endParaRPr b="0" i="1" lang="en-US" sz="4400" spc="-1" strike="noStrike">
              <a:solidFill>
                <a:srgbClr val="ffcc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like to think that the world values all people, and that all people are treated with the same dignity and respect and accorded rights that all human beings deserve.  Yet this is not always the case. There are people who live forever without rights, and others who take away other’s rights while demanding more rights for themselves. The questions this unit asks are all about rights---What rights should all humans have? What actions can we take to ensure all people everywhere have the basic rights of life, liberty, and the pursuit of happiness? Are there other rights needed?</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n-US" sz="2800" spc="-1" strike="noStrike">
                <a:solidFill>
                  <a:srgbClr val="000000"/>
                </a:solidFill>
                <a:latin typeface="Arial"/>
              </a:rPr>
              <a:t>Enduring Understandings: </a:t>
            </a:r>
            <a:r>
              <a:rPr b="0" i="1" lang="en-US" sz="2600" spc="-1" strike="noStrike">
                <a:solidFill>
                  <a:srgbClr val="000000"/>
                </a:solidFill>
                <a:latin typeface="Arial"/>
              </a:rPr>
              <a:t>What We Want You To Think Deeply About In This Unit.</a:t>
            </a:r>
            <a:r>
              <a:rPr b="0" i="1" lang="en-US" sz="2400" spc="-1" strike="noStrike">
                <a:solidFill>
                  <a:srgbClr val="000000"/>
                </a:solidFill>
                <a:latin typeface="Arial"/>
              </a:rPr>
              <a:t> </a:t>
            </a:r>
            <a:br>
              <a:rPr sz="2400"/>
            </a:br>
            <a:endParaRPr b="0" i="1" lang="en-US" sz="2400" spc="-1" strike="noStrike">
              <a:solidFill>
                <a:srgbClr val="ffcc00"/>
              </a:solidFill>
              <a:latin typeface="Arial"/>
            </a:endParaRPr>
          </a:p>
        </p:txBody>
      </p:sp>
      <p:sp>
        <p:nvSpPr>
          <p:cNvPr id="114" name="PlaceHolder 2"/>
          <p:cNvSpPr>
            <a:spLocks noGrp="1"/>
          </p:cNvSpPr>
          <p:nvPr>
            <p:ph/>
          </p:nvPr>
        </p:nvSpPr>
        <p:spPr>
          <a:xfrm>
            <a:off x="457200" y="1904760"/>
            <a:ext cx="8305920" cy="42670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re are </a:t>
            </a:r>
            <a:r>
              <a:rPr b="1" lang="en-US" sz="2600" spc="-1" strike="noStrike">
                <a:solidFill>
                  <a:srgbClr val="000000"/>
                </a:solidFill>
                <a:latin typeface="Times New Roman"/>
              </a:rPr>
              <a:t>basic rights</a:t>
            </a:r>
            <a:r>
              <a:rPr b="0" i="1" lang="en-US" sz="2600" spc="-1" strike="noStrike">
                <a:solidFill>
                  <a:srgbClr val="000000"/>
                </a:solidFill>
                <a:latin typeface="Times New Roman"/>
              </a:rPr>
              <a:t> that are afforded to all individuals regardless of who they are and where they live.</a:t>
            </a:r>
            <a:endParaRPr b="0" i="1" lang="en-US" sz="26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Our country was founded on </a:t>
            </a:r>
            <a:r>
              <a:rPr b="1" lang="en-US" sz="2600" spc="-1" strike="noStrike">
                <a:solidFill>
                  <a:srgbClr val="000000"/>
                </a:solidFill>
                <a:latin typeface="Times New Roman"/>
              </a:rPr>
              <a:t>rights of all individuals</a:t>
            </a:r>
            <a:r>
              <a:rPr b="0" i="1" lang="en-US" sz="2600" spc="-1" strike="noStrike">
                <a:solidFill>
                  <a:srgbClr val="000000"/>
                </a:solidFill>
                <a:latin typeface="Times New Roman"/>
              </a:rPr>
              <a:t> but not all individuals or groups of people realize the same rights.</a:t>
            </a:r>
            <a:endParaRPr b="0" i="1" lang="en-US" sz="2600" spc="-1" strike="noStrike">
              <a:solidFill>
                <a:srgbClr val="ffffff"/>
              </a:solidFill>
              <a:latin typeface="Arial"/>
            </a:endParaRPr>
          </a:p>
          <a:p>
            <a:pPr marL="343080" indent="-343080">
              <a:lnSpc>
                <a:spcPct val="100000"/>
              </a:lnSpc>
              <a:spcBef>
                <a:spcPts val="64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a:t>
            </a:r>
            <a:r>
              <a:rPr b="1" lang="en-US" sz="2600" spc="-1" strike="noStrike">
                <a:solidFill>
                  <a:srgbClr val="000000"/>
                </a:solidFill>
                <a:latin typeface="Times New Roman"/>
              </a:rPr>
              <a:t>actions of individuals and/or groups</a:t>
            </a:r>
            <a:r>
              <a:rPr b="0" i="1" lang="en-US" sz="2600" spc="-1" strike="noStrike">
                <a:solidFill>
                  <a:srgbClr val="000000"/>
                </a:solidFill>
                <a:latin typeface="Times New Roman"/>
              </a:rPr>
              <a:t> of people…including governments… have the power to determine what rights individuals do enjoy.</a:t>
            </a:r>
            <a:endParaRPr b="0" i="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re Are So Many Issues of Human Rights and These Are Just Some …</a:t>
            </a:r>
            <a:endParaRPr b="0" i="1" lang="en-US" sz="3600" spc="-1" strike="noStrike">
              <a:solidFill>
                <a:srgbClr val="ffcc00"/>
              </a:solidFill>
              <a:latin typeface="Arial"/>
            </a:endParaRPr>
          </a:p>
        </p:txBody>
      </p:sp>
      <p:sp>
        <p:nvSpPr>
          <p:cNvPr id="118"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ight to Disagree With Your Government</a:t>
            </a:r>
            <a:endParaRPr b="0" i="1" lang="en-US" sz="2400" spc="-1" strike="noStrike">
              <a:solidFill>
                <a:srgbClr val="ffffff"/>
              </a:solidFill>
              <a:latin typeface="Arial"/>
            </a:endParaRPr>
          </a:p>
          <a:p>
            <a:pPr marL="339480" indent="-339480">
              <a:lnSpc>
                <a:spcPct val="90000"/>
              </a:lnSpc>
              <a:spcBef>
                <a:spcPts val="601"/>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raqi’s look at the remains of their relatives who were gassed to death at the hands of Saddam Hussein.  These Kurds had angered him and he simply killed 1000’s of men, women, and children burying them in shallow graves together.</a:t>
            </a:r>
            <a:endParaRPr b="0" i="1" lang="en-US" sz="2400" spc="-1" strike="noStrike">
              <a:solidFill>
                <a:srgbClr val="ffffff"/>
              </a:solidFill>
              <a:latin typeface="Arial"/>
            </a:endParaRPr>
          </a:p>
        </p:txBody>
      </p:sp>
      <p:pic>
        <p:nvPicPr>
          <p:cNvPr id="119" name="" descr=""/>
          <p:cNvPicPr/>
          <p:nvPr/>
        </p:nvPicPr>
        <p:blipFill>
          <a:blip r:embed="rId1"/>
          <a:stretch/>
        </p:blipFill>
        <p:spPr>
          <a:xfrm>
            <a:off x="4648320" y="2766960"/>
            <a:ext cx="3809880" cy="25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Bear Children</a:t>
            </a:r>
            <a:endParaRPr b="0" i="1" lang="en-US" sz="4400" spc="-1" strike="noStrike">
              <a:solidFill>
                <a:srgbClr val="ffcc00"/>
              </a:solidFill>
              <a:latin typeface="Arial"/>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China, a grandmother cares for her 3 grandchildren while her son and daughter work in the fields.  China’s population control policy allows city residents only one child per family, but some in rural areas are permitted more. In areas of China, girls are still killed, because boys are more valued. Even worse, because women are routinely beaten and abused by their husbands, 1000’s of young women commit suicide each year by ingesting insecticides</a:t>
            </a:r>
            <a:r>
              <a:rPr b="0" i="1" lang="en-US" sz="2000" spc="-1" strike="noStrike">
                <a:solidFill>
                  <a:srgbClr val="000000"/>
                </a:solidFill>
                <a:latin typeface="Arial"/>
              </a:rPr>
              <a:t>.</a:t>
            </a:r>
            <a:endParaRPr b="0" i="1" lang="en-US" sz="2000" spc="-1" strike="noStrike">
              <a:solidFill>
                <a:srgbClr val="ffffff"/>
              </a:solidFill>
              <a:latin typeface="Arial"/>
            </a:endParaRPr>
          </a:p>
        </p:txBody>
      </p:sp>
      <p:pic>
        <p:nvPicPr>
          <p:cNvPr id="124" name="" descr=""/>
          <p:cNvPicPr/>
          <p:nvPr/>
        </p:nvPicPr>
        <p:blipFill>
          <a:blip r:embed="rId1"/>
          <a:stretch/>
        </p:blipFill>
        <p:spPr>
          <a:xfrm>
            <a:off x="685800" y="2505240"/>
            <a:ext cx="3809880" cy="30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Food</a:t>
            </a:r>
            <a:endParaRPr b="0" i="1" lang="en-US" sz="4400" spc="-1" strike="noStrike">
              <a:solidFill>
                <a:srgbClr val="ffcc00"/>
              </a:solidFill>
              <a:latin typeface="Arial"/>
            </a:endParaRPr>
          </a:p>
        </p:txBody>
      </p:sp>
      <p:sp>
        <p:nvSpPr>
          <p:cNvPr id="128" name="PlaceHolder 2"/>
          <p:cNvSpPr>
            <a:spLocks noGrp="1"/>
          </p:cNvSpPr>
          <p:nvPr>
            <p:ph/>
          </p:nvPr>
        </p:nvSpPr>
        <p:spPr>
          <a:xfrm>
            <a:off x="4648320" y="1981080"/>
            <a:ext cx="4114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raqi mothers keep vigil over their children.  Both children were diagnosed as severely malnourished and having a multi-vitamin deficiency.  30% of the Iraqi children under five suffer from chronic malnourishment. While Saddam and his children lived luxuriously, these children starved.</a:t>
            </a:r>
            <a:endParaRPr b="0" i="1" lang="en-US" sz="2400" spc="-1" strike="noStrike">
              <a:solidFill>
                <a:srgbClr val="ffffff"/>
              </a:solidFill>
              <a:latin typeface="Arial"/>
            </a:endParaRPr>
          </a:p>
        </p:txBody>
      </p:sp>
      <p:pic>
        <p:nvPicPr>
          <p:cNvPr id="129" name="" descr=""/>
          <p:cNvPicPr/>
          <p:nvPr/>
        </p:nvPicPr>
        <p:blipFill>
          <a:blip r:embed="rId1"/>
          <a:stretch/>
        </p:blipFill>
        <p:spPr>
          <a:xfrm>
            <a:off x="685800" y="2602080"/>
            <a:ext cx="3809880" cy="28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1"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ight to Life</a:t>
            </a:r>
            <a:endParaRPr b="0" i="1" lang="en-US" sz="4400" spc="-1" strike="noStrike">
              <a:solidFill>
                <a:srgbClr val="ffcc00"/>
              </a:solidFill>
              <a:latin typeface="Arial"/>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ere an American forensic doctor unburies the skull of a man killed by the Honduran military.  Again, he was simply  a victim who disagreed with current government policy.</a:t>
            </a:r>
            <a:endParaRPr b="0" i="1" lang="en-US" sz="2800" spc="-1" strike="noStrike">
              <a:solidFill>
                <a:srgbClr val="ffffff"/>
              </a:solidFill>
              <a:latin typeface="Arial"/>
            </a:endParaRPr>
          </a:p>
        </p:txBody>
      </p:sp>
      <p:pic>
        <p:nvPicPr>
          <p:cNvPr id="134" name="" descr=""/>
          <p:cNvPicPr/>
          <p:nvPr/>
        </p:nvPicPr>
        <p:blipFill>
          <a:blip r:embed="rId1"/>
          <a:stretch/>
        </p:blipFill>
        <p:spPr>
          <a:xfrm>
            <a:off x="4648320" y="2814480"/>
            <a:ext cx="3809880" cy="24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Right to Home and Parents</a:t>
            </a:r>
            <a:endParaRPr b="0" i="1" lang="en-US" sz="4400" spc="-1" strike="noStrike">
              <a:solidFill>
                <a:srgbClr val="ffcc00"/>
              </a:solidFill>
              <a:latin typeface="Arial"/>
            </a:endParaRPr>
          </a:p>
        </p:txBody>
      </p:sp>
      <p:sp>
        <p:nvSpPr>
          <p:cNvPr id="138" name="PlaceHolder 2"/>
          <p:cNvSpPr>
            <a:spLocks noGrp="1"/>
          </p:cNvSpPr>
          <p:nvPr>
            <p:ph/>
          </p:nvPr>
        </p:nvSpPr>
        <p:spPr>
          <a:xfrm>
            <a:off x="4648320" y="1981080"/>
            <a:ext cx="4114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n orphanage in Zaire, unaccompanied children sit on plastic potties.  The children were taken from their homes when their civil war broke out. This refugee center hopes to find their parents alive and able to reclaim their children.</a:t>
            </a:r>
            <a:endParaRPr b="0" i="1" lang="en-US" sz="2400" spc="-1" strike="noStrike">
              <a:solidFill>
                <a:srgbClr val="ffffff"/>
              </a:solidFill>
              <a:latin typeface="Arial"/>
            </a:endParaRPr>
          </a:p>
        </p:txBody>
      </p:sp>
      <p:pic>
        <p:nvPicPr>
          <p:cNvPr id="139" name="" descr=""/>
          <p:cNvPicPr/>
          <p:nvPr/>
        </p:nvPicPr>
        <p:blipFill>
          <a:blip r:embed="rId1"/>
          <a:stretch/>
        </p:blipFill>
        <p:spPr>
          <a:xfrm>
            <a:off x="685800" y="2795760"/>
            <a:ext cx="3809880" cy="24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1:22:04Z</dcterms:created>
  <dc:creator>mary maly</dc:creator>
  <dc:description/>
  <dc:language>en-US</dc:language>
  <cp:lastModifiedBy>Tonia Verhelst</cp:lastModifiedBy>
  <cp:lastPrinted>2003-10-03T18:55:39Z</cp:lastPrinted>
  <dcterms:modified xsi:type="dcterms:W3CDTF">2003-10-03T20:48:49Z</dcterms:modified>
  <cp:revision>30</cp:revision>
  <dc:subject/>
  <dc:title>Immigration:  Rights for New Americans</dc:title>
</cp:coreProperties>
</file>